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31C-2887-484C-961F-F7BBBAA4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F924-AEC3-44D1-8BCC-DD98CBB3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7162-B8EF-4F13-967E-ABB93DBD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D82-65E4-499C-814A-AE24525B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1F59-02A8-4AF6-AE4F-8DD10866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E17D-AAA6-47FB-88AE-38554E55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82DD-5B82-4493-86AE-A25161BE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1925-46B3-466D-AB29-BEC4CC4C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45AF-1D93-4DCC-9589-05523FF9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14080" y="277920"/>
            <a:ext cx="92581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F450-D4F9-4619-86B8-009E0152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2FC1-AE70-42C7-BCFC-25383C26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0B4-AF2C-40B7-8C1B-52E92539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86C8-CCC0-45A3-8D95-1D20C223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DF2E-24F5-4B6C-99FA-EADB30BB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AE82-4F44-4A8F-B07B-1795D100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77BE-291E-4D7C-A173-10F920F6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C447-C5C0-486B-B3B2-F590437D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6F3-5663-42A1-9765-D6197EB6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E45-DF38-499D-9B61-731236B1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AB6C-308F-406E-870E-9DB6C6EC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14080" y="277920"/>
            <a:ext cx="92581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AE99-8A68-44F3-8A72-EF4311F5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932-E6A0-4645-AAEB-91A66008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86D3-1B8E-4933-ABC5-6900C9EF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3A9E-1C4D-4C3A-B439-0E512B48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624348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348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1900-2843-4D44-9E23-E0BD4C9021A2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28760" y="228600"/>
            <a:ext cx="925812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4440" y="6172200"/>
            <a:ext cx="925812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28520" y="1523520"/>
            <a:ext cx="8575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14080" y="624348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14320" y="6243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372080" y="624348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2AB7-59F0-42A5-95F8-FA2DFA00B730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219320"/>
            <a:ext cx="89154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28760" y="3962520"/>
            <a:ext cx="732636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pintura.aut.org/" TargetMode="External"/><Relationship Id="rId2" Type="http://schemas.openxmlformats.org/officeDocument/2006/relationships/hyperlink" Target="http://www.coleccioncaixanova.com/cargador.php?phpg_idap=1001&amp;phpg_ctp=2&amp;phpg_id=256" TargetMode="External"/><Relationship Id="rId3" Type="http://schemas.openxmlformats.org/officeDocument/2006/relationships/hyperlink" Target="http://www.coleccioncaixanova.com/cargador.php?phpg_idap=1001&amp;phpg_ctp=2&amp;phpg_id=256" TargetMode="External"/><Relationship Id="rId4" Type="http://schemas.openxmlformats.org/officeDocument/2006/relationships/hyperlink" Target="http://www.pellizza.it/quarto.htm" TargetMode="External"/><Relationship Id="rId5" Type="http://schemas.openxmlformats.org/officeDocument/2006/relationships/hyperlink" Target="http://www.pellizza.it/quarto.htm" TargetMode="External"/><Relationship Id="rId6" Type="http://schemas.openxmlformats.org/officeDocument/2006/relationships/hyperlink" Target="http://www.pellizza.it/quarto.htm" TargetMode="External"/><Relationship Id="rId7" Type="http://schemas.openxmlformats.org/officeDocument/2006/relationships/hyperlink" Target="http://www.pellizza.it/quarto.htm" TargetMode="External"/><Relationship Id="rId8" Type="http://schemas.openxmlformats.org/officeDocument/2006/relationships/hyperlink" Target="http://www.pellizza.it/quarto.htm" TargetMode="External"/><Relationship Id="rId9" Type="http://schemas.openxmlformats.org/officeDocument/2006/relationships/hyperlink" Target="http://alhim.revues.org/document71.html" TargetMode="External"/><Relationship Id="rId10" Type="http://schemas.openxmlformats.org/officeDocument/2006/relationships/hyperlink" Target="http://alhim.revues.org/document71.html" TargetMode="External"/><Relationship Id="rId11" Type="http://schemas.openxmlformats.org/officeDocument/2006/relationships/hyperlink" Target="http://alhim.revues.org/document71.html" TargetMode="External"/><Relationship Id="rId12" Type="http://schemas.openxmlformats.org/officeDocument/2006/relationships/hyperlink" Target="http://alhim.revues.org/document71.html" TargetMode="External"/><Relationship Id="rId13" Type="http://schemas.openxmlformats.org/officeDocument/2006/relationships/hyperlink" Target="http://alhim.revues.org/document71.html" TargetMode="External"/><Relationship Id="rId14" Type="http://schemas.openxmlformats.org/officeDocument/2006/relationships/hyperlink" Target="http://www.juntadeandalucia.es/cultura/museos/MBASE/index.jsp?redirect=S2_3_1_1.jsp&amp;idpieza=880&amp;pagina=5" TargetMode="External"/><Relationship Id="rId15" Type="http://schemas.openxmlformats.org/officeDocument/2006/relationships/hyperlink" Target="http://www.documentarte.com/html/unaobra.phtml?codigo=1232" TargetMode="External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El realismo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0600" y="2060640"/>
            <a:ext cx="4681440" cy="4043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14960" y="333360"/>
            <a:ext cx="4824360" cy="3649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073640" y="4697280"/>
            <a:ext cx="2715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isa de Armas de la Cru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ES María Moliner (Sevil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asgos de la literatura realist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servación y descripción precisa de la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realida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bicación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próxim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e los hech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ósito de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crítica social y polític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dilección por la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novel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unque también se cultiva el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relato brev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on resultados muy brillan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Observación y descripción de la real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9320" y="981000"/>
            <a:ext cx="4824720" cy="3610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9320" y="4581000"/>
            <a:ext cx="92584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escritores se documentan sobre el terreno tomando apuntes sobre personajes y ambientes para fundamentar sus descrip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dotar a sus personajes de carácter y describir sus estados de ánimo consultan libros de psicología y medic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937120" y="981000"/>
            <a:ext cx="35434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Ubicación próxima de los hech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080" y="1125360"/>
            <a:ext cx="326052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úan sus obras en lugares próximos y bien conocidos por ellos y en el momento presen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irada se desplaza a lo cotidiano, eliminando el subjetivismo y la fantas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774960" y="1125360"/>
            <a:ext cx="635328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ósito de crítica social y polític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s autores conservadores describen la realidad para mostrar su degradación y postular un retorno a los viejos valores tradicionale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s progresistas también muestran las lacras sociales, pero para ellos éstas obedecen a la pervivencia de una mentalidad conservadora que lastra el avance hacia el mundo nuev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4600" y="189000"/>
            <a:ext cx="9896400" cy="65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novela realist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 novela se considera el género más adecuado par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flejar la realidad en su totalidad. Sus rasgos s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490320">
              <a:spcBef>
                <a:spcPts val="649"/>
              </a:spcBef>
              <a:buClr>
                <a:srgbClr val="ff99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osimilitu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490320">
              <a:spcBef>
                <a:spcPts val="649"/>
              </a:spcBef>
              <a:buClr>
                <a:srgbClr val="ff99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dactism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490320">
              <a:spcBef>
                <a:spcPts val="649"/>
              </a:spcBef>
              <a:buClr>
                <a:srgbClr val="ff99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rrador omniscien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490320">
              <a:spcBef>
                <a:spcPts val="649"/>
              </a:spcBef>
              <a:buClr>
                <a:srgbClr val="ff99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structura line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490320">
              <a:spcBef>
                <a:spcPts val="649"/>
              </a:spcBef>
              <a:buClr>
                <a:srgbClr val="ff99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cripciones minucios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490320">
              <a:spcBef>
                <a:spcPts val="649"/>
              </a:spcBef>
              <a:buClr>
                <a:srgbClr val="ff99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roximación del lenguaje al uso coloqu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aracterísticas de la novela realist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Verosimilitu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as obras se basan en la experiencia cotidiana y los protagonistas y ambientes son creí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idactism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on frecuencia los autores aprovechan la novela para dar una lección moral o social (novela de tesi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arrador omnisci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El narrador sabe lo que  va a suceder, conoce los más ocultos pensamientos de sus personajes e interviene directamente en la obra juzgando hechos y personaj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aracterísticas de la novela realist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Estructura linea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Los hechos suelen narrarse por orden cronológic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Descripciones minuciosa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Se describen con todo detalle los espacios (interiores o exteriores) y los personaj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proximación del lenguaje al uso coloquia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Se prefiere un estilo claro y sencillo. En los diálogos los personajes se expresan de acuerdo a su condición social o a su psicologí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os personaj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7680" y="1125360"/>
            <a:ext cx="42480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rente al idealismo de románticos, personajes de la novela realista reflejan los conflictos cotidianos de sus contemporáneos: amor, celos, infidelidad, búsqueda de trabajo, deseo de riqueza, avaricia, generosidad, egoísmo, solidaridad. Los lectores veían reflejados sus problemas y conflictos en los de los personajes novelesc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38600" y="1557360"/>
            <a:ext cx="545004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os personaj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4080" y="1052640"/>
            <a:ext cx="455292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uj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brará un especial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rotagonism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tratada sólo como mano de obra barata o relegada al hogar, generalmente casada con hombres mucho mayores o inferiores intelectual o culturalmente, intentará salir del papel que le ha sido asignado buscando, a través del amor, la realización personal que la sociedad le niega: de ahí la frecuencia del tema del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adulter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 del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amor insatisfech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32360" y="0"/>
            <a:ext cx="445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l Realism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conoce con el nombre de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alism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 movimiento cultural, propio de una sociedad burguesa, a la que no le agradan las fantasías idealistas romántic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e puede establecer una separación tajante entre Romanticismo y Realismo, en un principio se puede considerar que el Realismo surge por depuración de los elementos románticos más idealis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1320" y="0"/>
            <a:ext cx="8169120" cy="6851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11320" y="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l    Naturalis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l Naturalism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 denomina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turalismo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 una corriente literaria surgida a partir del Realismo que considera que la literatura es una ciencia cuyo objeto de estudio es el medio social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Naturalismo considera que el hombre no es realmente libre, sino que se encuentra determinado por la herencia y por el ambiente socia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l Naturalism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4240" y="980640"/>
            <a:ext cx="604836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 corriente se interesa especialmente por los ambientes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iserables y sórd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y por personajes tarados, alcohólicos o víctimas de patologías diver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escritores naturalistas, influidos por las ideas socialistas,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spiraban a mejorar las condiciones so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 que vivían los hombres por medio de la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enu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realizaban es sus nove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España el Naturalismo influyó en algunos autores, pero no llegó a desarrollarse completa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222960" y="189000"/>
            <a:ext cx="3897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41400"/>
            <a:ext cx="10287000" cy="6816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327320" y="4724280"/>
            <a:ext cx="2447640" cy="131076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Juan Val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Benito Pérez Galdó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eopoldo Alas (Clarí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milia Pardo Bazá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icente Blasco Ibáñe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960" y="1576440"/>
            <a:ext cx="2016000" cy="368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harles Dick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23320" y="1197000"/>
            <a:ext cx="2263680" cy="642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iedor  Dostoyev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eon Tolsto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48040" y="3089160"/>
            <a:ext cx="2158920" cy="916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onoré de Balz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ustave Flaub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Émile Z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384800"/>
            <a:ext cx="1111320" cy="855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José Mª Eça d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iro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63480" y="5897520"/>
            <a:ext cx="1802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a en 19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6600" y="18900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10287000" cy="1434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ncipales Novelistas del Realismo Europeo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réditos de las imágen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5120" y="1484280"/>
            <a:ext cx="92584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In the black country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, (c. 1890) Constantin Meunier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Lavanderas en el Sar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 (1896) Ovidio Murguía de Castro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Retratos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 (1895) Joaquín Vaamonde Cornid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El cuarto estado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 (1901), Giuseppe Pellizza da Volped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Sin pan y sin trabajo (1892/93)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, Ernesto de la Cárcova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Las cigarreras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 (1915), Gonzalo Bilbao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La lección de memoria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, Ignacio Pinazo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Calle de una vieja ciudad castellana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, Ignacio de Zuloaga y Zabaleta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Limosna en Sevilla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, José Villegas Cordero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La audiencia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, José Villegas Cordero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Junto a la chimenea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 (1875), Casimiro Sainz y Sainz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Las pupilas de Matilde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 (1906), Ignacio de Zuloaga y Zabaleta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Bajo la lluvia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 (fines del siglo XIX), Primitivo Álvarez Armesto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Todas las imágenes procedentes de 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Ciudad de la Pintura 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xcepto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3 en 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Colección 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Caixanov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4 en 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Associazione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 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Pellizza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 da 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Volpe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5 en 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Amérique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10"/>
              </a:rPr>
              <a:t> latine 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11"/>
              </a:rPr>
              <a:t>Histoire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12"/>
              </a:rPr>
              <a:t> y 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13"/>
              </a:rPr>
              <a:t>Mémoi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6 en 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14"/>
              </a:rPr>
              <a:t>Museo de Bellas Artes de Sevill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9 en 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15"/>
              </a:rPr>
              <a:t>Documentar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ronologí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El Realismo se desarrolla en </a:t>
            </a:r>
            <a:r>
              <a:rPr b="1" lang="es-ES" sz="3000" spc="-1" strike="noStrike">
                <a:solidFill>
                  <a:srgbClr val="ff9900"/>
                </a:solidFill>
                <a:latin typeface="Arial"/>
              </a:rPr>
              <a:t>Europa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desde </a:t>
            </a:r>
            <a:r>
              <a:rPr b="1" lang="es-ES" sz="3000" spc="-1" strike="noStrike">
                <a:solidFill>
                  <a:srgbClr val="ff9900"/>
                </a:solidFill>
                <a:latin typeface="Arial"/>
              </a:rPr>
              <a:t>1830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hasta los </a:t>
            </a:r>
            <a:r>
              <a:rPr b="1" lang="es-ES" sz="3000" spc="-1" strike="noStrike">
                <a:solidFill>
                  <a:srgbClr val="ff9900"/>
                </a:solidFill>
                <a:latin typeface="Arial"/>
              </a:rPr>
              <a:t>últimos años del siglo XIX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1" lang="es-ES" sz="3000" spc="-1" strike="noStrike">
                <a:solidFill>
                  <a:srgbClr val="ff9900"/>
                </a:solidFill>
                <a:latin typeface="Arial"/>
              </a:rPr>
              <a:t>España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el desarrollo de este movimiento es más tardío. En literatura se inicia en el año </a:t>
            </a:r>
            <a:r>
              <a:rPr b="1" lang="es-ES" sz="3000" spc="-1" strike="noStrike">
                <a:solidFill>
                  <a:srgbClr val="ff9900"/>
                </a:solidFill>
                <a:latin typeface="Arial"/>
              </a:rPr>
              <a:t>1870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, con la publicación de la novela </a:t>
            </a:r>
            <a:r>
              <a:rPr b="0" i="1" lang="es-ES" sz="3000" spc="-1" strike="noStrike">
                <a:solidFill>
                  <a:srgbClr val="ffffff"/>
                </a:solidFill>
                <a:latin typeface="Arial"/>
              </a:rPr>
              <a:t>La Fontana de Oro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, de Benito Pérez Galdó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Un arte burgué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48040" y="1125360"/>
            <a:ext cx="6265800" cy="29847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080" y="4149360"/>
            <a:ext cx="925812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ante estos años se produce la consolidación d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a burguesí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n el poder en la mayor parte de los países desarrollados. Surgen así los regímenes parlamentarios (aunque el sufragio no es universal; los obreros y las mujeres deberán librar una larga lucha para conquistar el derecho al vot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literatura realista refleja los conflictos internos y externos de la nueva clase que se ha hecho con el po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aparición de la clase obrer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6600" y="1557360"/>
            <a:ext cx="907236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aparición de la clase obrer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18960" y="1628640"/>
            <a:ext cx="5618160" cy="4243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72240" y="2008080"/>
            <a:ext cx="203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51680" y="1125360"/>
            <a:ext cx="3960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obreros debieron realizar 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uelg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anifestacion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enfrentamient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iolentos con el ejército y la policía para combatir la explotación despiadada y conseguir unas reivindicaciones mínimas (jornada de ocho horas, derecho a sindicarse, supresión de la explotación infanti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artir de las últimas décadas del siglo irán creándos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rganizaciones políticas y sindica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 inspiración socialista y anarqu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sarrollo científico y tecnológic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080" y="1125360"/>
            <a:ext cx="925812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filosofía propia de la sociedad burguesa decimonónica es el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ositivism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para la que no existe otra realidad que los hechos perceptibles ni es posible otra investigación que no sea el estudio empírico de esos hechos. La observación rigurosa y la experiencia son los instrumentos básicos de la filosofía positivis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os principios están en la base del desarrollo de las ciencias experimentales y de la técnic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os avances científic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080" y="1267920"/>
            <a:ext cx="92581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desarrollo de las ciencias experimentales servirá de modelo a los escritores e influirá en su obra. En este sentido se pueden destac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fundación de la medicina modern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basada en la experimentación gracias al fisiólogo Claude Bern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formulación de las leyes de la herencia genétic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or Mend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teoría de la evolución de las especi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enunciada por Darw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teoría de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la lucha de clas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como motor de la historia de Karl Mar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os nuevos invent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desarrollo científico conlleva el tecnológico, en este periodo se suceden numerosos inventos que modificaron progresivamente la vida cotidian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errocarril a vapor para transporte de pasajeros (1830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icicleta de pedales (183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légrafo (184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namita (1866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léfono (1876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uz eléctrica (187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utomóvil (1886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ine (189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0:22:31Z</dcterms:created>
  <dc:creator>Elisa</dc:creator>
  <dc:description/>
  <cp:keywords/>
  <dc:language>en-US</dc:language>
  <cp:lastModifiedBy>Elisa</cp:lastModifiedBy>
  <cp:lastPrinted>31145-04-09T18:45:43Z</cp:lastPrinted>
  <dcterms:modified xsi:type="dcterms:W3CDTF">2008-02-15T18:46:46Z</dcterms:modified>
  <cp:revision>9</cp:revision>
  <dc:subject/>
  <dc:title>El Realismo</dc:title>
</cp:coreProperties>
</file>